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EE4-3E91-473C-B58B-3C88644F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D96-7144-4111-80F3-BA1103F5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A90-D4E5-49FB-B8A4-75C86012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947-C37C-42D3-B614-5509BD0A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4A4D-C518-4720-87E0-2F724507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895B-F881-4071-BB2A-79E5431A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A566-7E29-4109-A525-A3402A17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68E8-F2D9-44D2-AD26-56FD709F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096C-B91E-45D2-BF07-A13E8D54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8305-B48E-4942-9920-9339337E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3200-6499-4B37-AF95-62EB7AC3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D17C-6C91-427E-A856-DB9903D9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5FB4-2174-4BBF-A76E-736648A2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A3CA-826A-4AFA-8FB7-DD90262D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44CE-5A0F-4302-A143-78DB323F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D583-C525-4AC5-8F4C-58A01167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A31A-EF39-486A-9D92-72B55491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064-11F2-4789-8508-A9AC7385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04B-76ED-493C-B6CD-859577BC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9C9-ADA4-4B27-A94C-FDA62B9B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341-A40F-4C4D-88AA-14AAAEFB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62A-748C-4BC2-8FD3-0FA76C02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395-DCC5-4A7F-8393-F60A62CA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740-0C14-488B-9362-6198D02A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8359-1881-44F4-BD25-519F7493C353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AFD1-5D72-4636-979A-3D29A8DB6173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基本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18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a50021"/>
                </a:solidFill>
                <a:latin typeface="標楷體"/>
                <a:ea typeface="標楷體"/>
              </a:rPr>
              <a:t>只學識倉頡字母和輔助字形，是沒有可能正確取得中文字的字碼。所以要學習以下幾個名詞定義和最基本的取碼概念。</a:t>
            </a:r>
            <a:r>
              <a:rPr b="0" lang="zh-TW" sz="2200" spc="-1" strike="noStrike">
                <a:solidFill>
                  <a:srgbClr val="660000"/>
                </a:solidFill>
                <a:latin typeface="標楷體"/>
                <a:ea typeface="標楷體"/>
              </a:rPr>
              <a:t>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2957400"/>
            <a:ext cx="2895480" cy="28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 u="sng">
                <a:solidFill>
                  <a:srgbClr val="ae4828"/>
                </a:solidFill>
                <a:uFillTx/>
                <a:latin typeface="標楷體"/>
                <a:ea typeface="標楷體"/>
                <a:hlinkClick r:id="rId1" action="ppaction://hlinksldjump"/>
              </a:rPr>
              <a:t>基本字形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 u="sng">
                <a:solidFill>
                  <a:srgbClr val="ae4828"/>
                </a:solidFill>
                <a:uFillTx/>
                <a:latin typeface="標楷體"/>
                <a:ea typeface="標楷體"/>
                <a:hlinkClick r:id="rId2" action="ppaction://hlinksldjump"/>
              </a:rPr>
              <a:t>取碼順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字首字身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連體字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分體字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中國字的基本字型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2590920"/>
            <a:ext cx="5562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連體形         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外內形</a:t>
            </a:r>
            <a:r>
              <a:rPr b="0" lang="zh-TW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3.   </a:t>
            </a: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並列形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4.   </a:t>
            </a: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上下形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9680" y="762120"/>
            <a:ext cx="2438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a50021"/>
                </a:solidFill>
                <a:latin typeface="Arial"/>
                <a:ea typeface="標楷體"/>
              </a:rPr>
              <a:t>連體形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3429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外內形</a:t>
            </a:r>
            <a:r>
              <a:rPr b="0" lang="zh-TW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24080" y="1752480"/>
          <a:ext cx="36216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752480"/>
                    <a:ext cx="362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200400" y="4343400"/>
          <a:ext cx="36180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343400"/>
                    <a:ext cx="3618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286000" y="236232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333333"/>
                </a:solidFill>
                <a:latin typeface="Times New Roman"/>
                <a:ea typeface="華康楷書體W5(P)"/>
              </a:rPr>
              <a:t>例：鳥、車、亞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(P)"/>
              </a:rPr>
              <a:t>　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5029200"/>
            <a:ext cx="32004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333333"/>
                </a:solidFill>
                <a:latin typeface="Times New Roman"/>
                <a:ea typeface="華康楷書體W5(P)"/>
              </a:rPr>
              <a:t>例：因、同、間、凶</a:t>
            </a:r>
            <a:r>
              <a:rPr b="0" lang="zh-TW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3880" y="4572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並列形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分為以下三種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)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66880" y="1371600"/>
          <a:ext cx="251460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371600"/>
                    <a:ext cx="251460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666880" y="3962520"/>
          <a:ext cx="228600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96252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601640" y="3200400"/>
            <a:ext cx="457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上下形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分為以下四種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304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取碼順序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266688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008000"/>
                </a:solidFill>
                <a:uFillTx/>
                <a:latin typeface="Times New Roman"/>
                <a:ea typeface="標楷體"/>
              </a:rPr>
              <a:t>由左至右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9084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792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13716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倉頡的取碼是根據中國字的基本字形，由左至右、由上至下、由外至內取碼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3996000" cy="1027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733920" y="3821040"/>
            <a:ext cx="3311280" cy="1082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276720" y="5410080"/>
            <a:ext cx="4114800" cy="1047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47920" y="411480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008000"/>
                </a:solidFill>
                <a:uFillTx/>
                <a:latin typeface="Times New Roman"/>
                <a:ea typeface="標楷體"/>
              </a:rPr>
              <a:t>由上至下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2920" y="558648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008000"/>
                </a:solidFill>
                <a:uFillTx/>
                <a:latin typeface="Times New Roman"/>
                <a:ea typeface="標楷體"/>
              </a:rPr>
              <a:t>由外至內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字首、字身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150804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倉頡輸入法將一個字分為</a:t>
            </a:r>
            <a:r>
              <a:rPr b="1" lang="zh-TW" sz="2000" spc="-1" strike="noStrike">
                <a:solidFill>
                  <a:srgbClr val="009900"/>
                </a:solidFill>
                <a:latin typeface="Times New Roman"/>
                <a:ea typeface="標楷體"/>
              </a:rPr>
              <a:t>字首</a:t>
            </a:r>
            <a:r>
              <a:rPr b="1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和</a:t>
            </a:r>
            <a:r>
              <a:rPr b="1" lang="zh-TW" sz="2000" spc="-1" strike="noStrike">
                <a:solidFill>
                  <a:srgbClr val="009900"/>
                </a:solidFill>
                <a:latin typeface="Times New Roman"/>
                <a:ea typeface="標楷體"/>
              </a:rPr>
              <a:t>字身</a:t>
            </a:r>
            <a:r>
              <a:rPr b="1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兩部份，用作限制取碼數目，使到每字最多只能取五個碼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2743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字體中本身可作外內、上下或左右切割分離者，而其最外面，最左邊或最上方的字形則稱之為字首。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0384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是指字首以外的部份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9360" y="2362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9900"/>
                </a:solidFill>
                <a:latin typeface="Times New Roman"/>
                <a:ea typeface="標楷體"/>
              </a:rPr>
              <a:t>字首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9360" y="3581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9900"/>
                </a:solidFill>
                <a:latin typeface="Times New Roman"/>
                <a:ea typeface="標楷體"/>
              </a:rPr>
              <a:t>字身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5720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666600"/>
                </a:solidFill>
                <a:latin typeface="Times New Roman"/>
                <a:ea typeface="標楷體"/>
              </a:rPr>
              <a:t>次字首、次字身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4981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當一個字的字身可以再分拆為「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字首</a:t>
            </a: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」及「</a:t>
            </a:r>
            <a:r>
              <a:rPr b="0" lang="zh-TW" sz="1600" spc="-1" strike="noStrike">
                <a:solidFill>
                  <a:srgbClr val="3333ff"/>
                </a:solidFill>
                <a:latin typeface="Times New Roman"/>
                <a:ea typeface="標楷體"/>
              </a:rPr>
              <a:t>字身</a:t>
            </a: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」時，則稱為「</a:t>
            </a:r>
            <a:r>
              <a:rPr b="0" lang="zh-TW" sz="1600" spc="-1" strike="noStrike">
                <a:solidFill>
                  <a:srgbClr val="3333ff"/>
                </a:solidFill>
                <a:latin typeface="Times New Roman"/>
                <a:ea typeface="標楷體"/>
              </a:rPr>
              <a:t>次字首</a:t>
            </a: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」及「</a:t>
            </a:r>
            <a:r>
              <a:rPr b="0" lang="zh-TW" sz="1600" spc="-1" strike="noStrike">
                <a:solidFill>
                  <a:srgbClr val="3333ff"/>
                </a:solidFill>
                <a:latin typeface="Times New Roman"/>
                <a:ea typeface="標楷體"/>
              </a:rPr>
              <a:t>次字身</a:t>
            </a: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」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06480" y="5943600"/>
            <a:ext cx="75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e09142"/>
                </a:solidFill>
                <a:latin typeface="Times New Roman"/>
                <a:ea typeface="標楷體"/>
              </a:rPr>
              <a:t>說明例子：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038480" y="5943600"/>
            <a:ext cx="574920" cy="514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連體字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1752480"/>
            <a:ext cx="80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a50021"/>
                </a:solidFill>
                <a:latin typeface="Times New Roman"/>
                <a:ea typeface="標楷體"/>
              </a:rPr>
              <a:t>連體字是指字體本身的筆劃交連而無法可以切割分開的字。</a:t>
            </a:r>
            <a:r>
              <a:rPr b="0" lang="zh-TW" sz="21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321000"/>
            <a:ext cx="762012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9933"/>
                </a:solidFill>
                <a:latin typeface="標楷體"/>
                <a:ea typeface="標楷體"/>
              </a:rPr>
              <a:t>1. </a:t>
            </a:r>
            <a:r>
              <a:rPr b="0" lang="zh-TW" sz="2000" spc="-1" strike="noStrike">
                <a:solidFill>
                  <a:srgbClr val="339933"/>
                </a:solidFill>
                <a:latin typeface="標楷體"/>
                <a:ea typeface="標楷體"/>
              </a:rPr>
              <a:t>第一碼為字首，其餘部份為字身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9933"/>
                </a:solidFill>
                <a:latin typeface="標楷體"/>
                <a:ea typeface="標楷體"/>
              </a:rPr>
              <a:t>2. </a:t>
            </a:r>
            <a:r>
              <a:rPr b="0" lang="zh-TW" sz="2000" spc="-1" strike="noStrike">
                <a:solidFill>
                  <a:srgbClr val="339933"/>
                </a:solidFill>
                <a:latin typeface="標楷體"/>
                <a:ea typeface="標楷體"/>
              </a:rPr>
              <a:t>字身在三碼以內者，依據取碼順序全取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9933"/>
                </a:solidFill>
                <a:latin typeface="標楷體"/>
                <a:ea typeface="標楷體"/>
              </a:rPr>
              <a:t>3. </a:t>
            </a:r>
            <a:r>
              <a:rPr b="0" lang="zh-TW" sz="2000" spc="-1" strike="noStrike">
                <a:solidFill>
                  <a:srgbClr val="339933"/>
                </a:solidFill>
                <a:latin typeface="標楷體"/>
                <a:ea typeface="標楷體"/>
              </a:rPr>
              <a:t>字身四碼或以上者，取字身的首、次、尾三碼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	</a:t>
            </a:r>
            <a:r>
              <a:rPr b="0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所以連體字最多取四碼：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字首一碼 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+ 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字身的首、次、尾三碼</a:t>
            </a:r>
            <a:r>
              <a:rPr b="0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。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	</a:t>
            </a:r>
            <a:r>
              <a:rPr b="0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(</a:t>
            </a:r>
            <a:r>
              <a:rPr b="0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亦即全字的首、次、三及尾四碼</a:t>
            </a:r>
            <a:r>
              <a:rPr b="0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)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09120" y="2635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09142"/>
                </a:solidFill>
                <a:latin typeface="Times New Roman"/>
                <a:ea typeface="標楷體"/>
              </a:rPr>
              <a:t>取碼通則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分體字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14176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a50021"/>
                </a:solidFill>
                <a:latin typeface="Times New Roman"/>
                <a:ea typeface="標楷體"/>
              </a:rPr>
              <a:t>凡字體可被分割為字首、字身兩部份的字，稱為分體字。或符合下列條件之一者，亦皆為分體字。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2819520"/>
            <a:ext cx="8458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取碼數目最多五個碼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字首兩碼或以下，全取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字首多於兩碼者，只取首尾兩碼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字身若為連體字，取首、二及尾三個碼，不足三個碼則全取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字身若為分體字，則將字身再分為次字首及次字身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次字首若為單碼者，取次字首一碼，次字身首、尾碼。</a:t>
            </a:r>
            <a:r>
              <a:rPr b="0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非單碼次字首，則只取次字首的首、尾兩碼及次字身尾碼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85440" y="2666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09142"/>
                </a:solidFill>
                <a:latin typeface="Times New Roman"/>
                <a:ea typeface="標楷體"/>
              </a:rPr>
              <a:t>取碼通則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1:57:03Z</dcterms:created>
  <dc:creator>hkied</dc:creator>
  <dc:description/>
  <dc:language>en-US</dc:language>
  <cp:lastModifiedBy>HKIEd</cp:lastModifiedBy>
  <dcterms:modified xsi:type="dcterms:W3CDTF">2005-08-31T05:36:21Z</dcterms:modified>
  <cp:revision>152</cp:revision>
  <dc:subject/>
  <dc:title>簡介倉頡輸入法</dc:title>
</cp:coreProperties>
</file>